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igh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Out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,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 or Freed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Associ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fs that Actions are Morally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the Significance of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Become Part of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l Towards or Away from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a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mnation of Condem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l to Higher Loy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acing Labels—Outlaw Bi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Labels—Saints and Roughn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Moral Boundaries and Affirms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viance Be Funct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Values Produc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Leads to A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the act itself, but the reactions to the act, that make something devian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ard Becker, 19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ea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e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Deviant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Institutional Means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-Collar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egitimate Opportunity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, Crime, and the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nd In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 as an Instrument of O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ath Penalty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t to Some is not Deviant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” is Nonjudgment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with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ization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Mental nor Illn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less Mentally 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ore Human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Norms 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Rules or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g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mishes on “Normal”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orms - Social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’s Formal and Informal Means of Enforc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Make Social Lif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is a Sa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enterpiece of Public 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tion Cere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and Degradation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In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re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Abnormalities Within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t Pers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577B-1133-4743-B2F2-DE6A06555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D5A3-0F61-4EBA-AE7F-4A8617F8E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A329-A1F7-4974-8C90-70B07D07A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1DD1-D7E8-4D00-90C9-F50EC52A7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FBEED-76F7-4C22-BBE8-992D69E7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CC343-1ED9-4326-B8FB-EC3AA167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BE42A-EF34-4EFF-820B-0F1EDCA2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C1555-5303-4417-80DA-A93374A3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486CB-EFF9-4176-AFF0-CD2132AA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10DED-7C6C-4441-88D1-52D58EDD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8E307-270A-4908-8572-AAF866E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B5FD-18A1-4A50-8F66-01E7D317A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602D9-798C-4D4C-A71A-6EC802CA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FAEE2-1ED9-46F4-B6BD-0841B51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10EE3-ED60-4A9B-BFDC-5A4891B3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3716C-579E-43B6-B3C8-414807B4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C861F-7C30-4A18-9BD5-CCBC9B25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89B8-A397-473A-9DAC-0104FC716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1718-123A-4B12-B404-651989A6C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930E-328E-4E8B-84DC-269890425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3CEF-99CF-4575-899E-AFA5516EA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A6E8-F31B-4AAF-8B5A-B9FD360BA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D8594-9A3A-4564-B470-D4A36D525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63E9-C8AB-4FA3-AB69-60534D168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A2E7-C733-415D-90C0-9E0DEDE47EB6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8:Deviance and Social Control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6726-ACF3-49B9-9D27-9581C0AB8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048120" y="3733920"/>
            <a:ext cx="5105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ight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viance and Social Control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Out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iends, Neighb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son or Freedom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fferential Association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0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us Princip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28600"/>
            <a:ext cx="72392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76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ut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ach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volve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fs that Actions are Morally Wro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304920"/>
            <a:ext cx="76201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the Significance of Labe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bels Become Part of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pel Towards or Away from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Responsi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Inju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a Vict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1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emnation of Condemn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l to Higher Loyal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bracing Labels—Outlaw Bi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ower of Labels—Saints and Roughnec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2860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rifies Moral Boundaries and Affirms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U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n Deviance Be Function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8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Values Produc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 Me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in Leads to Anom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ain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2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not the act itself, but the reactions to the act, that make something deviant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r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6300"/>
                </a:solidFill>
                <a:latin typeface="Times New Roman"/>
              </a:rPr>
              <a:t>Howard Becker, 1966</a:t>
            </a:r>
            <a:endParaRPr b="1" lang="en-US" sz="20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82880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ovat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t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reat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bell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 Deviant Path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6" dur="1" fill="hold"/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Institutional Means to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ite-Collar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egitimate Opportunity Struc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5" descr="C:\PowerPoint Work\Allyn &amp; Bacon\2005 Work\Henslin 8ed\Artwork\08-01.jpg"/>
          <p:cNvPicPr/>
          <p:nvPr/>
        </p:nvPicPr>
        <p:blipFill>
          <a:blip r:embed="rId1"/>
          <a:stretch/>
        </p:blipFill>
        <p:spPr>
          <a:xfrm>
            <a:off x="1295280" y="380880"/>
            <a:ext cx="655344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, Crime, and the Criminal Justic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and In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w as an Instrument of Oppress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9" dur="1" fill="hold"/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 and Pris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8" dur="1" fill="hold"/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7" name="Picture 3" descr="C:\PowerPoint Work\Allyn &amp; Bacon\2005 Work\Henslin 8ed\Artwork\08-02.jpg"/>
          <p:cNvPicPr/>
          <p:nvPr/>
        </p:nvPicPr>
        <p:blipFill>
          <a:blip r:embed="rId1"/>
          <a:stretch/>
        </p:blipFill>
        <p:spPr>
          <a:xfrm>
            <a:off x="2505240" y="33480"/>
            <a:ext cx="4133520" cy="6789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2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3" name="Picture 6" descr="C:\PowerPoint Work\Allyn &amp; Bacon\2005 Work\Henslin 8ed\Artwork\08-03.jpg"/>
          <p:cNvPicPr/>
          <p:nvPr/>
        </p:nvPicPr>
        <p:blipFill>
          <a:blip r:embed="rId1"/>
          <a:stretch/>
        </p:blipFill>
        <p:spPr>
          <a:xfrm>
            <a:off x="1676520" y="228600"/>
            <a:ext cx="55465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ath Penalty Bi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9" name="Picture 3" descr="C:\PowerPoint Work\Allyn &amp; Bacon\2005 Work\Henslin 8ed\Artwork\08-04.jpg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12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Deviant to Some is not Deviant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” is Nonjudgmental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806400"/>
            <a:ext cx="5181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2743200" y="380880"/>
            <a:ext cx="2971800" cy="5943600"/>
            <a:chOff x="2743200" y="380880"/>
            <a:chExt cx="2971800" cy="5943600"/>
          </a:xfrm>
        </p:grpSpPr>
        <p:pic>
          <p:nvPicPr>
            <p:cNvPr id="172" name="Picture 3" descr="C:\PowerPoint Work\Allyn &amp; Bacon\2005 Work\Henslin 8ed\Artwork\08-05.jpg"/>
            <p:cNvPicPr/>
            <p:nvPr/>
          </p:nvPicPr>
          <p:blipFill>
            <a:blip r:embed="rId1"/>
            <a:srcRect l="0" t="0" r="0" b="78289"/>
            <a:stretch/>
          </p:blipFill>
          <p:spPr>
            <a:xfrm>
              <a:off x="2895480" y="380880"/>
              <a:ext cx="2541600" cy="266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73" name="Picture 4" descr="C:\PowerPoint Work\Allyn &amp; Bacon\2005 Work\Henslin 8ed\Artwork\08-05.jpg"/>
            <p:cNvPicPr/>
            <p:nvPr/>
          </p:nvPicPr>
          <p:blipFill>
            <a:blip r:embed="rId2"/>
            <a:srcRect l="0" t="73955" r="0" b="0"/>
            <a:stretch/>
          </p:blipFill>
          <p:spPr>
            <a:xfrm>
              <a:off x="2895480" y="3124080"/>
              <a:ext cx="254160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sp>
          <p:nvSpPr>
            <p:cNvPr id="174" name="AutoShape 6"/>
            <p:cNvSpPr/>
            <p:nvPr/>
          </p:nvSpPr>
          <p:spPr>
            <a:xfrm>
              <a:off x="2743200" y="2895480"/>
              <a:ext cx="2971800" cy="3049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39240 h 304920"/>
                <a:gd name="textAreaBottom" fmla="*/ 265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buClr>
                  <a:srgbClr val="996633"/>
                </a:buClr>
                <a:buSzPct val="60000"/>
                <a:buFont typeface="Wingdings" charset="2"/>
                <a:buChar char="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g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ouble with Stat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dicalization of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ither Mental nor Illness?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meless Mentally Il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ed for More Humane Approa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66680" y="1219320"/>
            <a:ext cx="80773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6" dur="1" fill="hold"/>
                                  <p:tgtEl>
                                    <p:spTgt spid="1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Norms as Law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Rules or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igma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lemishes on “Normal” Ident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viance Termin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Norms - Social Chao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ontrol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’s Formal and Informal Means of Enforc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orms Make Social Life Possibl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11320"/>
            <a:ext cx="34290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anc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haming is a San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Be Centerpiece of Public Ritu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gradation Ceremon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haming and Degradation Ceremon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In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etic Predispos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Abnormaliti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ity Disor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t Personal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1187280"/>
            <a:ext cx="78487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8:53Z</dcterms:modified>
  <cp:revision>178</cp:revision>
  <dc:subject>Chapter 8:Deviance and Social Control</dc:subject>
  <dc:title>Sociology: A Down-to-Earth Approach, 8/e</dc:title>
</cp:coreProperties>
</file>